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1D0-1705-4E98-BEBA-851A6324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494-EEF5-4EA4-9ADD-AE6F067D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850-3C24-4EB5-8BCE-830C6C9F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325-6389-4B99-8637-B8A3CF3F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3182-B194-4F52-ADE5-855FD66E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5513-EF10-49B8-952D-2CD9DCDE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2DC3-8F5C-4BF1-9C55-4B7758C2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B592-5513-4D7F-821E-E0304C01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884C-7E0C-42DD-A84F-1D72C8D9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8EF-436C-48EF-89ED-CE4C56F3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430-2A0D-40A8-B47C-BB858C64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501-38D6-48C4-A99E-C24F9557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B5A-9F09-4D58-91F9-26A109E6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112D-C55C-4711-AD55-78D7BA9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37BA-CE1B-44BB-A0FA-19659EDE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DDFA-DD4E-4D1D-AC2C-B34AD829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F89-095B-476F-B364-7F7835B1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B15A-A3B8-4C19-80CF-BC497089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C3EA-4F38-41DD-AB7C-BDFD7167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9E71-FA6A-4344-87E7-C19B0C2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3AB4-B372-4160-985A-D8B32D6E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1E2F-926E-4404-99C7-11C0EC20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9C7-A422-47A5-8041-2639E879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A193-A4FC-42A9-8D60-F3A5630C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60B4-6BB0-4824-96E3-FADB99B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41AA-5720-4447-AD70-2F8F7C0A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F0A8-73AF-48A1-8794-F4EB432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5EE1-C045-412C-AA3C-839598DC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8E2C-2074-4427-98BB-7B34264B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9014-B708-4108-958B-AA8EDF92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5A9CE-D1E2-4488-935B-63833EA3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64B3-D4BE-4EBC-9E5B-DA3E61E8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FAF6A-8956-4EDD-AD95-6DF8CE84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E3E-057C-4DD5-8409-1989A826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94E0-915A-43CD-B4D5-E0E6EBAA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C8BF-9AD1-4DAA-9D2E-2EA1C87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1BDE-7155-4E3D-ABB8-091CFD4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ADBCF-7C70-49AA-99DB-6A1B739F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F8058-1D98-45A1-AB3B-47829B9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8A47-ED68-4577-B28A-5B869A5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2A3C-0CFA-4ED1-A5C6-2AE97C9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EC24-1568-473E-8B6E-D920E8D0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8C9D-863D-4DD7-A88C-D57B8F01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413C-76DA-43D1-96DC-FE795AFE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CB2-ED3B-4F9E-9F9A-03766B21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AD3F9-BE52-46B7-9A79-B959C4C9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A788-3266-49D1-9EEC-F5C21015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600B8-D050-4517-A399-F6A8A1D4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D8BF-8999-49F8-AB7A-0755DE8A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79D6-7CC5-4B1F-AD52-A82905F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8D4F1-1723-4EF7-B624-628EBFD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B6DF-FBD4-443B-BA74-A410C23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CD6B8-4D11-464B-A8AE-88FE8BF9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829B-0475-4BEA-BBF5-F9D026F3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5C0ED-6315-424A-A2CA-F48A3507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904-ECD9-4426-A4E2-0E3C8D73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392A5-83B1-4990-8D3E-E701C742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290F-0F44-4862-9B8A-EFF1A477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D5C4B-7554-4E01-BFDC-CB8F740E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0F39-C81B-438E-A9AE-A9A7E737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E2978-CAE4-4177-87B5-D3393DA6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403BA-8CC5-41F0-B592-AFCAB830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491B9-8A45-4615-B621-4D7DB83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FE2EA-38E8-4BA0-A43C-D8F3B9A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D4BF3-0E1A-4320-A15A-492ECF53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A00E-98EB-49BD-BF3C-E1E03025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9FE-C2BA-4204-B4EC-8C7BE5BB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B3A29-81A3-4049-88AD-4B80A4AD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30D67-DE6F-474D-97B8-62448F84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1875-5A6F-4412-99F6-90A1BF1B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9C44-93A1-4565-9E45-C7E67355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AD34-EEE5-45DB-B3E0-00848C3F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FD25C-E967-49CA-BFDD-CDA0DD0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DAFE-7822-4754-AD16-AEDA0191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D8FBC-5493-4FA3-ADC7-6449C915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B25AF-2830-4E29-B2F4-DFDD907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0B73-2F1D-4063-AFFE-CE8B757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2DB-BB65-4BC0-95F7-A963FCF1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49541-A12C-4970-A96F-ACA6275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D1CA-5D52-499E-A168-0B3759E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4268B-E3C4-4E88-9E2D-CE256491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C702E-953F-4501-898F-9379616C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A2813-C0BA-49C6-8A6B-1C1BDD8A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3E8-965F-4CB4-BB46-E0DA8B3E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лод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1 полугодие 2024 го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сполнение бюджета  для граждан за 1 полугодие 2024 года подготовлен  на основании Постановления администрации Кажлодского сельского поселения №37 от 18.06.2024 г.  «Об исполнении бюджета Кажлодского сельского поселения Торбеевского муниципального района Республики Мордовия за 1 полугодие 2024 года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ЧЕТ ОБ ИСПОЛНЕНИИ БЮДЖЕ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ИСПОЛНЕНИЯ БЮДЖЕТА ПОСЕЛЕНИЯ ЗА 1 полугодие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1952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5,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4,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БЮДЖЕТА КАЖЛОДСКОГО СЕЛЬСКОГО ПОСЕЛЕНИЯ ТОРБЕЕВСКОГО МУНИЦИПАЛЬНОГО РАЙОНА РЕСПУБЛИКИ МОРДОВИЯ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ГОД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4 ГОДА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Объект 2"/>
          <p:cNvGraphicFramePr/>
          <p:nvPr/>
        </p:nvGraphicFramePr>
        <p:xfrm>
          <a:off x="2124000" y="1820880"/>
          <a:ext cx="552456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820880"/>
                    <a:ext cx="55245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250920" y="2290680"/>
          <a:ext cx="8569080" cy="43480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и затрат госу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24"/>
          <p:cNvSpPr/>
          <p:nvPr/>
        </p:nvSpPr>
        <p:spPr>
          <a:xfrm>
            <a:off x="1193760" y="528480"/>
            <a:ext cx="697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КАЖЛОД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ЗА 1 ПОЛУГОДИЕ 20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3"/>
          <p:cNvSpPr/>
          <p:nvPr/>
        </p:nvSpPr>
        <p:spPr>
          <a:xfrm>
            <a:off x="299160" y="618480"/>
            <a:ext cx="878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КАЖЛОД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01680" y="2141640"/>
          <a:ext cx="8569440" cy="37670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1,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5,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4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Кажлодского сельского посе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сташова Любовь Степан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0, Республика Мордовия, Торбеевский район, с. Кажлодка, ул. Школьная, д.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3-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likovage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1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2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Кажлод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Кажлодка</cp:lastModifiedBy>
  <cp:lastPrinted>2015-12-24T07:26:25Z</cp:lastPrinted>
  <dcterms:modified xsi:type="dcterms:W3CDTF">2024-07-29T09:10:46Z</dcterms:modified>
  <cp:revision>676</cp:revision>
  <dc:subject/>
  <dc:title>ИЖМОРСКИЙ МУНИЦИПАЛЬНЫЙ РАЙОН</dc:title>
</cp:coreProperties>
</file>