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7B0-8D7D-436F-B780-9567AD6A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E26-3538-498C-BA35-5DDF8CF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309-C0A6-464A-BFC1-183AB500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3C4-8905-4388-99FD-21409C1C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3F0-8F49-4B5F-A5AE-1468E9F3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F96F-AC55-40EA-94D6-31F3E90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36C-B4D6-434F-84E8-45062EE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EA55-A18F-4F03-A0A2-6CAF64A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A330-90FD-4E68-8EA8-9B31561D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E1B9-DF98-470D-8B79-ACCD7C5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30B4-A9D6-4C9C-A3A5-C4F9FE9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34-FF94-481A-886F-5B92A93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0EC-A0DF-4CA8-869A-C24E31A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82F-9018-4F4F-8A76-FF6BF6F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CD3C-03F9-412F-9B11-3701AA6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5B9-C825-483D-87FE-4673D4F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E48-9CBB-4AC4-A2DB-7BA2B10D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491F-8884-444D-B39A-3B5F1816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575D-D2AE-4113-832B-E2B65B80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E4CD-A45F-4A4F-B493-4E803FC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FDFC-AC18-4C14-A39E-25FF88B7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DD85-6178-4C5C-8652-C03FF18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816-ECF2-4703-8BD3-EFDC8630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C292-D123-4008-B052-6BC8DC5A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2ABB-69F4-4C21-A59C-2E7F2F3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2461-43A1-4BB5-ABC6-07C77B14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8B73-CB73-4388-894B-0CA7C13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E762-5619-40E8-A66A-E20BFA8B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2546-D3AE-4AE4-BBDF-67226D2F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52D8-6C36-44CC-B6AB-0FB5F2D7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543A-75ED-4F54-98E5-2954EDB9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3D09-E667-457C-9F27-49AC87C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2201-70A8-46B0-B758-3FB2CDA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B46-8990-48CB-9A58-A0B7310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655F-F92E-4204-98F7-335BE9F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BFCE-3ECC-4333-812B-51EA22C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0796-5ABA-4BBE-8108-5065972C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CDE2-24C1-465D-9E4E-6626571A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52D2-BD52-4904-9E51-2BFF1F6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7BB5-5A65-4528-AE0A-3D404DC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A8EA-6ED4-44E5-B24D-645B02A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CA83-7DBE-4D07-A5C2-74E19D4B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A90E-536F-4644-AB28-99C3D4C9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1E69-0E96-4F30-A9F8-404F8E90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316-8230-4ADF-9F59-410AC5E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300F-58A9-478B-AD0B-8B71DCD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C95D-2EDE-4FE1-9C3A-B959D832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6C93-A9F3-443A-AD39-32FF6E5E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8688-F82C-46B6-A7A6-C246903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FF73C-0B2B-47D2-A40E-F64E104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5790-129F-4ABD-846A-A433B0F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D559-BE2A-45C1-B837-7C3D05E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8EF8-DA01-4C06-B5C3-0094BD8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C4D0-FBA5-4C8D-A7AC-3111E9B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6B37-3A7D-4E9A-8011-A2C6F6AB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8C8-9A9C-42E7-A99D-08ECA0D9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CE2B-F1AC-4592-8DD9-B6BCAE2B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EFF9-A918-4720-9A61-0AC13665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ADE8-8660-484F-B846-B6AED3A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FE47B-10E9-49A7-A6E8-31D77D7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DC8DB-1597-486F-B106-0D6B36D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99BD-E9F1-4C7E-BD17-AFB7B83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6A91-45D9-4E8C-B90A-9286A7B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BE51-7D8A-4C4C-9831-8D01F33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7C98-568F-4999-A178-4C1112B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3601-795D-4534-944F-ED2EC22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421-2B14-49C6-9856-A9A29C0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14FA-A1F0-452D-BB62-F56E770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5AD02-8C10-4560-A591-43DBF75A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488A-6B43-4BC9-899D-BFDF4337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E8CB-7506-4242-9F5F-907995E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4796D-43CA-4EC1-89CF-EC38C2D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8237-1DD9-4152-B70B-BC152318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D778-FEE3-497B-8B2F-93FBF3E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5D8F-86CB-4739-8259-275B0B0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78B1-366C-4C2C-989B-3B453D0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1F8E-FD2A-48A4-9815-D1F4542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A46-F6A3-48D1-9DD4-A3DF96F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3A31-E050-4D15-8846-A4E29D6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C9A5-9484-42F7-943E-9E640552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9C2F-3AB8-46A8-8F9E-945A944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2E0A-2454-4434-8EEA-3D0D28FD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78FC5-21FF-41FF-99C8-00A12A1B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E9E-E5AD-4C28-BD07-BD30F6C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Кажлод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25 и на плановый период 2026 и 2027 г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Бюджет  для граждан на 2025 год и на плановый период 2026 и 2027 годов подготовлен  на основании Решения Совета депутатов Кажлодского сельского поселения №203 от 26.12.2024г.  «О бюджете Кажлодского сельского поселения Торбеевского муниципального района Республики Мордовия на 2025 год и на плановый период 2026 и 2027 годов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БЮДЖЕТА ПОСЕЛЕНИЯ НА 2025  ГОД И НА ПЛАНОВЫЙ ПЕРИОД 2026 И 2027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БЮДЖЕТА КАЖЛОДСКОГО СЕЛЬСКОГО ПОСЕЛЕНИЯ ТОРБЕЕВСКОГО МУНИЦИПАЛЬНОГО РАЙОНА РЕСПУБЛИКИ МОРДОВИ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5 ГОД И НА ПЛАНОВЫЙ ПЕРИОД 2026 И 2027 ГОДОВ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Объект 2"/>
          <p:cNvGraphicFramePr/>
          <p:nvPr/>
        </p:nvGraphicFramePr>
        <p:xfrm>
          <a:off x="2340000" y="1844640"/>
          <a:ext cx="55245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55245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50920" y="2290680"/>
          <a:ext cx="8569080" cy="3875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муниципаль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КАЖЛОД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НА 2025 ГОД И НА ПЛАНОВЫЙ ПЕРИОД 2026 И 202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3"/>
          <p:cNvSpPr/>
          <p:nvPr/>
        </p:nvSpPr>
        <p:spPr>
          <a:xfrm>
            <a:off x="299160" y="618480"/>
            <a:ext cx="87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КАЖЛОД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01680" y="2141640"/>
          <a:ext cx="8569440" cy="34606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шова Любовь Степан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0, Республика Мордовия, Торбеевский район, с. Кажлодка, ул. Школьная, д.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3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ikovage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79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0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Кажлод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Кажлодка</cp:lastModifiedBy>
  <cp:lastPrinted>2015-12-24T07:26:25Z</cp:lastPrinted>
  <dcterms:modified xsi:type="dcterms:W3CDTF">2024-12-28T07:21:31Z</dcterms:modified>
  <cp:revision>642</cp:revision>
  <dc:subject/>
  <dc:title>ИЖМОРСКИЙ МУНИЦИПАЛЬНЫЙ РАЙОН</dc:title>
</cp:coreProperties>
</file>