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90B-985D-40FE-9F66-8CCA961D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6DC-1DA2-43AD-A59B-1721B786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C74-BF73-4B26-9CC3-630BB21F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463-2BF7-4DD9-95D0-B1B23B55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463-FFAC-42F2-A703-650042AF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8543-E647-4095-9A21-3014B64F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4066-CDA0-4214-B767-0EA41A5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58A6-1494-41AF-A388-A66BC17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1D10-CEFF-4239-9F39-244DBB7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206-6D92-4C6E-AAB4-98677FB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9518-4B30-44A5-B511-D682DC7A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E97-BB3E-48BF-BCEE-2DF85638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869B-DD6D-4EC5-A152-A5AA08F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73B-C1CE-4952-86E1-996BD00C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69D0-3B35-455F-B845-6D182E0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FA43-8FEE-477A-BB76-FC0D2306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E133-7C3D-4D0D-A63A-051A3423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F9A7-816C-43C0-94EE-8ADE7370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7897-466E-469C-90AB-7A398DC9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B04C-46DB-4783-983B-085C7D9B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7EF9-5E4F-469A-8AD5-1F139BD9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B753-511B-4AF2-84C9-CA63E0DB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8FD-65A3-4938-BC9C-ABB2DB74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8E0B-CD20-4281-A62C-F072B776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C83B-7C41-46F0-8C77-0C030F91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3C3E-D9FE-4422-B9C8-B860FA9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BCFF-ECED-4975-82C5-4665B8AB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FD4F-809B-43A8-9AFA-8EC24F56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18EA-4D5A-42F6-8ADF-DE961E42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E49F4-04D0-4AA0-B979-F1987600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504A-0594-451F-8504-08BDBF03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2FFE4-DCD2-4A49-857B-1C04C9E9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A711-3290-49CB-9677-BD956BA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C60-0822-4F11-8001-0F63375F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B154-9A57-4AB5-9D24-68F6B3F4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CF25-9AFD-4CEB-8218-92F0FE3B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6C98-4893-498F-9B42-FAA90B71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F10A-DF0E-47DD-838A-C8C9B4B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D44E1-345A-450B-A74E-861B97B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1BC9-FD6B-4B8B-AC37-A9AC777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7CF97-1C7B-4509-B45F-C4CD093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85C5-3CDD-4E90-9A5B-53759AC1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998A-7762-42CA-94D6-43D538E3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C7BE-6479-46AF-8010-E87C1EC1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5D5-5A11-45B5-AB96-77731D22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BF25-2189-4A96-8076-A879C4FE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DE3C-2D49-4DAF-B676-91A78591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34DA3-7997-41E4-8038-1199C8BC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A755E-6E35-4E91-A6E3-3BF5C131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FEF7-B729-47AF-994B-9BA13426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6E2FD-3868-4F76-A548-E8F992D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20E6-BC5F-4396-A811-D5169B0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4A845-1D0E-46BF-8F9E-41CD956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73B3-599B-4EA0-BDE0-EF1E76C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98D67-AAB7-4684-B1AB-405950ED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AD8-2D30-48BB-9051-9EF72C2D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799F-D348-4D23-8BCF-2D9BEEA1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BE7B8-C50E-4F06-A614-C7AD8558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77173-B903-41A3-B60E-8D7070D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75B5-8C31-4D35-AB0E-7109631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46C8-E446-45CB-9FC5-F47B9AD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40F4-EEAC-4DCD-85CB-05B3D9C8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B1C86-3A95-4ECD-8C7A-45358374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79CC0-16BC-43D2-91AB-C895C5E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64AF-BF21-4BC4-A908-8EF02FF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820A3-FDF1-4C24-80BC-AD2C6245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094-CC41-47B9-BFFF-338EA44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5371-C99A-4A99-A93A-6F5444BE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240A-ACF8-421B-BB50-7EC46131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F9C2A-7268-4D92-AA77-26A6A41E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4227C-D879-4E0D-8FD0-887DA6EB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FB6F-CF65-4C18-B13A-249370E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721F7-317C-4CD8-BCFD-9ED4B196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17A68-77D1-49DC-A63A-19C03986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E87F-458E-42AE-BD7C-B845E42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33C3-56BB-4EB8-B02B-195FFF4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CD718-168A-4F5D-A665-A845631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AB9-0A32-4C14-840C-B134D23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56A5-3124-489F-B12C-7134185E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4A3E-E939-418D-9BD8-F6FFBDA5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1DD14-351C-4495-A7FF-87A7E3AC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4285-506D-40E0-B135-47F9676C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045A-7940-4119-AB5C-0F9186C9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9E0-4212-424E-BCA4-2E2A312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лод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1 полугодие 2023 год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1 полугодие 2023 года подготовлен  на основании Постановления администрации Кажлодского сельского поселения №45 от 19.07.2023 г.  «Об исполнении бюджета Кажлодского сельского поселения Торбеевского муниципального района Республики Мордовия за 1 полугодие 2023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 1 полугодие 202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4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7,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КАЖЛОДСКОГО СЕЛЬСКОГО ПОСЕЛЕНИЯ ТОРБЕЕВСКОГО МУНИЦИПАЛЬНОГО РАЙОНА РЕСПУБЛИКИ МОРДОВИЯ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УГОД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3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Объект 2"/>
          <p:cNvGraphicFramePr/>
          <p:nvPr/>
        </p:nvGraphicFramePr>
        <p:xfrm>
          <a:off x="2124000" y="1820880"/>
          <a:ext cx="552456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820880"/>
                    <a:ext cx="552456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2290680"/>
          <a:ext cx="8569080" cy="43480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24"/>
          <p:cNvSpPr/>
          <p:nvPr/>
        </p:nvSpPr>
        <p:spPr>
          <a:xfrm>
            <a:off x="1193760" y="528480"/>
            <a:ext cx="697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КАЖЛОД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1 ПОЛУГОДИЕ 20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3"/>
          <p:cNvSpPr/>
          <p:nvPr/>
        </p:nvSpPr>
        <p:spPr>
          <a:xfrm>
            <a:off x="308520" y="481320"/>
            <a:ext cx="87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КАЖЛОД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1 ПОЛУГОДИЕ 202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01680" y="2141640"/>
          <a:ext cx="8569440" cy="3767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4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Кажлодского сельского поселе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сташова Любовь Степан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0, Республика Мордовия, Торбеевский район, с. Кажлодка, ул. Школьная, д.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3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likovage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1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2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Кажлод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Ann</cp:lastModifiedBy>
  <cp:lastPrinted>2015-12-24T07:26:25Z</cp:lastPrinted>
  <dcterms:modified xsi:type="dcterms:W3CDTF">2023-07-20T13:48:37Z</dcterms:modified>
  <cp:revision>654</cp:revision>
  <dc:subject/>
  <dc:title>ИЖМОРСКИЙ МУНИЦИПАЛЬНЫЙ РАЙОН</dc:title>
</cp:coreProperties>
</file>